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527120" y="845640"/>
            <a:ext cx="4718160" cy="32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136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398840" y="-360"/>
            <a:ext cx="33703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2E0F65-DB6A-407B-9638-0336F53B6C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38F18F-9E7E-40B5-9B2C-7F6C75A47A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3E8558-8BB3-4056-BBDE-C2F55494A8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EADE23-F4C5-4470-918F-59A627C934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95D29E-7771-4940-8983-7C61B8910F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E80932-DB2F-48EE-A422-C9BB0D864C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C2A56D-11C4-4484-8257-6DF6DC6FF3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EBE72F-BF1A-4191-87A8-A099E07F52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8B2983-63F6-46D0-975F-957B3DE8EE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397EEE-B68B-4D08-BBA9-F914C39C6E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6B5FE8-EA43-4A14-827D-309036B93B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6BAE71-92A5-4775-A6AF-C6543F1B3E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WenQuanYi Zen Hei"/>
              </a:rPr>
              <a:t>- structural and functional brain imaging, animal studies, and the response to drugs with noradrenergic activity (eg, methylphenida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WenQuanYi Zen Hei"/>
              </a:rPr>
              <a:t>- Environmental: diet, artificial colors/flavors, preservatives, sugar, food sensitivity, acetaminophen (unproven), smoking (confound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WenQuanYi Zen Hei"/>
              </a:rPr>
              <a:t>- Dopamine, serotonin transporter, serotonin receptor, dopamine beta hydroxylase, sinaptosome assoc protein, glutamate recep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WenQuanYi Zen Hei"/>
              </a:rPr>
              <a:t>- Reversed or absent asymmetry of caudate nucleus, smaller cerebral and cerebellar volume, smaller posterior corpus callosum regions, and increased gray matter in the posterior temporal and inferior parietal cort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WenQuanYi Zen Hei"/>
              </a:rPr>
              <a:t>- Clinical: processes involved in forward planning, including abstract reasoning, mental flexibility, working memory) and/or difficulties with response inhib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WenQuanYi Zen Hei"/>
              </a:rPr>
              <a:t>- noradrenergic system is involved in the modulation of higher cortical functions, including attention, alertness, vigilance, and executive function (norepinephrine-dopamine imbalan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8A0773-F33F-4AF4-A844-5C91B56DE2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615201-339F-442B-AF62-01D6984BFA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WenQuanYi Zen Hei"/>
              </a:rPr>
              <a:t>- symptoms typically are observed by the time the child reaches 4 years of and increase, peaking at 7-8 years, then declin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C3BB16-8298-430B-AE49-9AD620ED85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53FDBB-6F4F-4FE0-B025-A6CBF6855E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39800" y="4401720"/>
            <a:ext cx="6292800" cy="4778280"/>
          </a:xfrm>
          <a:prstGeom prst="rect">
            <a:avLst/>
          </a:prstGeom>
          <a:noFill/>
          <a:ln w="0">
            <a:noFill/>
          </a:ln>
        </p:spPr>
        <p:txBody>
          <a:bodyPr lIns="0" rIns="0" tIns="1440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WenQuanYi Zen Hei"/>
              </a:rPr>
              <a:t>- Conners 3</a:t>
            </a:r>
            <a:r>
              <a:rPr b="0" lang="en-US" sz="1600" spc="-1" strike="noStrike" baseline="33000">
                <a:solidFill>
                  <a:srgbClr val="000000"/>
                </a:solidFill>
                <a:latin typeface="Arial"/>
                <a:ea typeface="WenQuanYi Zen Hei"/>
              </a:rPr>
              <a:t>r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WenQuanYi Zen Hei"/>
              </a:rPr>
              <a:t>: ADHD + internal/external symptoms, DSM-IV and DSM-V sco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WenQuanYi Zen Hei"/>
              </a:rPr>
              <a:t>- BASC: more evaluation of general problems: aggression, conduct, anxiety, depression, learning, adapatability, so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WenQuanYi Zen Hei"/>
              </a:rPr>
              <a:t>- Child Behavior Checklist: somatic, social, attention, anxiety, depression, aggression, withdraw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WenQuanYi Zen Hei"/>
              </a:rPr>
              <a:t>- ACTeRS: Attention, hyperactive, lack social skills, opposi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WenQuanYi Zen Hei"/>
              </a:rPr>
              <a:t>- ADHD Rating: DSM-I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WenQuanYi Zen Hei"/>
              </a:rPr>
              <a:t>- Childhood attention problems: attention, impulsivity, hypera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WenQuanYi Zen Hei"/>
              </a:rPr>
              <a:t>- Conners 3, short: inattentive, hyperactive/impulse, learning, executive function, aggression, peer rel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WenQuanYi Zen Hei"/>
              </a:rPr>
              <a:t>- BASC monitor: attention/adaptive, hyperactive, internaliz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WenQuanYi Zen Hei"/>
              </a:rPr>
              <a:t>- Disruptive Behavior: DSM-IV symptoms ODD, ADHD, C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WenQuanYi Zen Hei"/>
              </a:rPr>
              <a:t>- Vanderbilt: ADHD DSM-IV, screen for comorbid conditions ODD, CD, anxiety, depr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WenQuanYi Zen Hei"/>
              </a:rPr>
              <a:t>In the US, public schools are federally mandated to perform appropriate evaluations (eg, language, cognitive) at no cost to the family if a child is suspected of having a disability that impairs functioning (eg, ADHD or learning disability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B58E70-73EF-4381-B52A-265BB6F6DF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D45F-8139-45EF-A975-00F11B925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0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89600"/>
            <a:ext cx="9070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108E-195E-4713-8E85-792A9A824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896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0896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5F14-AA58-41ED-AA21-62FAF0CD8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8000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8000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896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0896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0896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9C49-E753-48B0-A517-2304738D4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14241-1366-465B-ACDD-2CEAB277D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2920" y="1800000"/>
            <a:ext cx="9070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36266-CD45-43C7-B8E0-232EBF6C2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0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A8314-FDB8-4661-81D5-5BD5D17D7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1240" y="180000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2344B-501C-4CB6-A4F8-19FB4502E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86CE7-3FC0-4075-8499-CFEDDABA9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3280" y="576000"/>
            <a:ext cx="719784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72039-6E5F-43C0-9F00-5D330805B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1240" y="180000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2920" y="40896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757EB-ED54-4F1A-A7C5-1E3FA1C0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800000"/>
            <a:ext cx="9070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3367-1EDA-4E80-9C7E-AB87F58D1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124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51240" y="40896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00AF0-27AF-4DD0-9F26-A81787F7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124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2920" y="4089600"/>
            <a:ext cx="9070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C9A8D-ECD4-4D27-8B96-43830601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0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2920" y="4089600"/>
            <a:ext cx="9070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D4728-160E-4E93-B48E-94A249316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124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2920" y="40896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51240" y="40896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BCCE3-FEEC-44DA-900D-2B70D206E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70120" y="18000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36960" y="18000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2920" y="40896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70120" y="40896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36960" y="40896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14DB8-C796-45F0-9081-31DF5CDCC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0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5022-7FE1-4247-B11B-A31B54C6B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80000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EA34-930C-4018-95C4-E8FD81B0B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D5A9-A3C7-48D0-BBA3-311A15034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576000"/>
            <a:ext cx="719784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FB27-ACA4-46A8-9560-8545C3F71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80000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896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C563-9984-4FBD-AE6B-2C7ADB29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0896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2606-E068-419C-BAAB-88C0C29D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89600"/>
            <a:ext cx="9070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1D40-6728-416C-B516-C56A76FB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3C6119-E378-495D-87AF-826CC025A4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02920" y="1800000"/>
            <a:ext cx="9070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E624CE-1855-47BD-8E2A-6D0252615E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s://www.uptodate.com/contents/attention-deficit-hyperactivity-disorder-adhd-in-children-the-basics?source=see_link" TargetMode="External"/><Relationship Id="rId2" Type="http://schemas.openxmlformats.org/officeDocument/2006/relationships/hyperlink" Target="https://www.uptodate.com/contents/symptoms-and-diagnosis-of-attention-deficit-hyperactivity-disorder-in-children-beyond-the-basics?source=see_link" TargetMode="External"/><Relationship Id="rId3" Type="http://schemas.openxmlformats.org/officeDocument/2006/relationships/hyperlink" Target="http://www.incredibleyears.com/index.asp" TargetMode="External"/><Relationship Id="rId4" Type="http://schemas.openxmlformats.org/officeDocument/2006/relationships/hyperlink" Target="http://www.triplep.net/glo-en/home/" TargetMode="External"/><Relationship Id="rId5" Type="http://schemas.openxmlformats.org/officeDocument/2006/relationships/hyperlink" Target="http://www.pcit.org/" TargetMode="External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www.uptodate.com/external-redirect.do?target_url=http%3A%2F%2Fwww.nichq.org%2Fadhd.html&amp;TOPIC_ID=624" TargetMode="External"/><Relationship Id="rId2" Type="http://schemas.openxmlformats.org/officeDocument/2006/relationships/hyperlink" Target="http://www.nichq.org/childrens-health/adhd/resources/vanderbilt-assessment-scales" TargetMode="External"/><Relationship Id="rId3" Type="http://schemas.openxmlformats.org/officeDocument/2006/relationships/hyperlink" Target="http://www.nichq.org/childrens-health/adhd/resources/adhd-toolkit" TargetMode="External"/><Relationship Id="rId4" Type="http://schemas.openxmlformats.org/officeDocument/2006/relationships/hyperlink" Target="https://www.uptodate.com/external-redirect.do?target_url=http%3A%2F%2Fwww.chadd.org%2FAdvocacy%2FEducation.aspx&amp;TOPIC_ID=624" TargetMode="External"/><Relationship Id="rId5" Type="http://schemas.openxmlformats.org/officeDocument/2006/relationships/hyperlink" Target="http://www.chadd.org/" TargetMode="External"/><Relationship Id="rId6" Type="http://schemas.openxmlformats.org/officeDocument/2006/relationships/hyperlink" Target="http://www.add.org/" TargetMode="External"/><Relationship Id="rId7" Type="http://schemas.openxmlformats.org/officeDocument/2006/relationships/hyperlink" Target="https://add.org/adhd-library/" TargetMode="External"/><Relationship Id="rId8" Type="http://schemas.openxmlformats.org/officeDocument/2006/relationships/hyperlink" Target="https://add.org/adda-virtual-programs/" TargetMode="External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ention Deficit Hyperactive Dis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2920" y="1712880"/>
            <a:ext cx="907236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briel Anaya M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 Costa Regional Medical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978440" y="3676680"/>
            <a:ext cx="18108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3639960" y="218448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03280" y="1800360"/>
          <a:ext cx="9072360" cy="984240"/>
        </p:xfrm>
        <a:graphic>
          <a:graphicData uri="http://schemas.openxmlformats.org/drawingml/2006/table">
            <a:tbl>
              <a:tblPr/>
              <a:tblGrid>
                <a:gridCol w="4537080"/>
                <a:gridCol w="4535280"/>
              </a:tblGrid>
              <a:tr h="36504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chool Children (4-5 year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-age Children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WenQuanYi Zen Hei"/>
                        </a:rPr>
                        <a:t>≥6 year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61920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Behavioral thera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Stimul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Stimulant + behavioral thera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12" name="Text Box 19"/>
          <p:cNvSpPr/>
          <p:nvPr/>
        </p:nvSpPr>
        <p:spPr>
          <a:xfrm>
            <a:off x="549360" y="3108240"/>
            <a:ext cx="896148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treatment op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chool based inter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ocial skills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Psychothera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ietary inter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No medications: every 6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Medications: Weekly (titration) to monthly and 3-6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 to treatmen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Reduction core symptoms (40-50% compared to basel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ecreased proportion of missing assignments (20-60% per we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havioral Inter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72000"/>
          </a:bodyPr>
          <a:p>
            <a:pPr marL="310680" indent="-232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intaining a daily sche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0680" indent="-232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eping distractions to a minimu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0680" indent="-232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ing specific and logical places for the child to keep his schoolwork, toys, and cloth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0680" indent="-232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tting small, reachable goals (see 'Target goals' abov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0680" indent="-232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warding positive behavior (eg, with a "token economy"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0680" indent="-232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ntifying unintentional reinforcement of negative behavi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0680" indent="-232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ing charts and checklists to help the child stay "on task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0680" indent="-232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miting cho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0680" indent="-232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nding activities in which the child can be successful (eg, hobbies, sport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0680" indent="-232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ing calm discipline (eg, time out, distraction, removing the child from the situatio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armaco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60280" y="182520"/>
          <a:ext cx="9526680" cy="7294680"/>
        </p:xfrm>
        <a:graphic>
          <a:graphicData uri="http://schemas.openxmlformats.org/drawingml/2006/table">
            <a:tbl>
              <a:tblPr/>
              <a:tblGrid>
                <a:gridCol w="1905120"/>
                <a:gridCol w="1630440"/>
                <a:gridCol w="1261800"/>
                <a:gridCol w="1714680"/>
                <a:gridCol w="3014640"/>
              </a:tblGrid>
              <a:tr h="61920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de/Gener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 D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nded Rele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419040">
                <a:tc gridSpan="5"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imula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36840"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ylpheni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talin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ylin (g) (Chewabl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ylin (g) (Suspensi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5 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25 kg: 35 m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25 kg: 60 m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: 6-8 h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: 50/50%, up to 13 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: 30/70%, 8-12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: 20/80%, 10-12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R: 40/60%, 12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ch: 9-12 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65040"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xmethylpheni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alin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6 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m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R: 50/50%, 10-12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1431720"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xtroamphetam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edrine, Zenzedine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ntra (g) (soluti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6 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5 years: 20 m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6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50kg: 40 m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50 mg: 60 m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R: 8-10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: 13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R: 6-8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vanse: body conve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19200"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phetamine-dextroamphetam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erall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6 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50 kg: 40 m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50 kg: 60 m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19200">
                <a:tc gridSpan="5"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stimul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9200"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tt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12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 mg/kg 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m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1065240"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pha-2 adrenergic agon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Gunafecine 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Clonidine 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un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pv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12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12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12y: 4 m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12y: 7m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mg/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ptodate: 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Basi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Beyond the Bas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ent-training progr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Incredible Years Parenting Progra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Forest Parenting Progr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Positive Parenting Progra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Parent-Child Interaction Thera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alified preschool program (Head Start, Early Childhood Special Education Servic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76000"/>
          </a:bodyPr>
          <a:p>
            <a:pPr marL="327960" indent="-245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National Initiative for Children's Healthcare Quality (NICHQ) ADHD tool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2462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Vanderbilt Assessment Sc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2462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Resource Toolkit for Clinici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7960" indent="-245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achers: 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National Resource Center on ADH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7960" indent="-245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ildren and Adults with Attention Deficit/Hyperactivity Disorder 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(CHAD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7960" indent="-245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tional Attention Deficit Disorder Association 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(ADD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2462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Multiple resourc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virtual programs/worksho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7960" indent="-245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tional Institute of Mental Health (NIM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2462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oklets on ADH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7960" indent="-245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United States Department of Education: ADH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7960" indent="-245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American Academy of Child and Adolescent Psychiatry (AACA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 Costa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t Contra Costa CHADD affili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2103480" y="1800360"/>
            <a:ext cx="5905440" cy="43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H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90000"/>
          </a:bodyPr>
          <a:p>
            <a:pPr marL="388440" indent="-291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val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91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ildren 2-18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91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hool-age children 8-11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91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ent reported 42% increase 2003-2011 (NSC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91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le-Female ratio 4:1 hyperactive type and 2:1 inattentive ty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91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le 15.1%; Female 6.7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91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 to 10 years 7.7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91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1 to 14 years 14.3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91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5 to 17 years 14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orbidi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positional defiant disorder 50-80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duct disorder 33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xiety 20-40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pression 33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rning disability 40-60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hoge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91000"/>
          </a:bodyPr>
          <a:p>
            <a:pPr marL="392760" indent="-294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definitive but: catecholamine metabolism in cerebral cortex appears to play primary r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2760" indent="-294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vironmental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2760" indent="-294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netic twin studies have demonstrated concordance up to 92% of monozygotic twins and 33% dizygotic twi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294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RD2, DRD4, DRD5, SLC6A3, SLC6A4, HTR1B, DBH, SNAP25, GRM1, GRM5, GRM7, GRM8, CNV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2760" indent="-294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uroanatomy: caudate nucleus, cerebral and cerebellar volume, smaller corpus callosum, increased gray matter, smaller prefrontal cortical volumes,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reduced local activation of basal ganglia and anterior frontal lob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484200"/>
            <a:ext cx="719928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attentiveness, impulsivity, and hyp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present in more than one setting (school and hom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ist for at least six mont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present before the age of 12 yea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air function in academic, social, or occupational activ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excessive for the developmental level of the chi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be caused by other mental disord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nical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503280" y="1800360"/>
          <a:ext cx="9072360" cy="5354640"/>
        </p:xfrm>
        <a:graphic>
          <a:graphicData uri="http://schemas.openxmlformats.org/drawingml/2006/table">
            <a:tbl>
              <a:tblPr/>
              <a:tblGrid>
                <a:gridCol w="4537080"/>
                <a:gridCol w="4535280"/>
              </a:tblGrid>
              <a:tr h="42516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eractive/Impuls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atten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4929480"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essive fidgetines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y remaining seated when sitting is requi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elings of restlessness (teens) or inappropriate running around or climbing (kid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y playing quiet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 to keep up with, seeming to always be "on the go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essive talk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y waiting tur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urting out answers too quick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ruption or intrusion of oth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lure to provide close attention to detail, careless mistak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y maintaining attention in play, school, or home activi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ms not to listen, even when directly addres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ls to follow through (homework, chor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y organizing tasks, activities, and belongin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oids tasks that require consistent mental eff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es objects required for tasks or activities (school books, sports equipmen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sily distracted by irrelevant stimu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getfulness in routine activi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ial Diagn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74680" y="1393920"/>
          <a:ext cx="9510840" cy="5894280"/>
        </p:xfrm>
        <a:graphic>
          <a:graphicData uri="http://schemas.openxmlformats.org/drawingml/2006/table">
            <a:tbl>
              <a:tblPr/>
              <a:tblGrid>
                <a:gridCol w="1955880"/>
                <a:gridCol w="1971720"/>
                <a:gridCol w="1690560"/>
                <a:gridCol w="1992240"/>
                <a:gridCol w="1900440"/>
              </a:tblGrid>
              <a:tr h="1271520"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mental Vari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rologic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mental Disor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otional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havioral Disord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ychosocial or environmental proble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cal Condi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536400"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llectual disa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rning disa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ression or mood disor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ld abuse or negl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ring or vision impair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755640"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ftedn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guage or communication disor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xie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essful home environ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eep disor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800280"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 vari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rodevelopmental syndro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positional defiant disor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adequate or punitive paren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em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974880">
                <a:tc>
                  <a:txBody>
                    <a:bodyPr lIns="90000" rIns="90000" tIns="626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izure disor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uct disor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ental psychopathology or substance abu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stance abu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s 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36400">
                <a:tc>
                  <a:txBody>
                    <a:bodyPr lIns="90000" rIns="90000" tIns="626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quelae of CNS trauma/inf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appropriate education set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ocrine (thyroid/D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1019160">
                <a:tc>
                  <a:txBody>
                    <a:bodyPr lIns="90000" rIns="90000" tIns="626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or coordination disord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TS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ustment disord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t school absenc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ac (HF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d allerg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havioral Rating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t">
            <a:normAutofit fontScale="42000"/>
          </a:bodyPr>
          <a:p>
            <a:pPr marL="181080" indent="-135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oadband Scales: core symptoms + internalizing/externalizing behavior (S&amp;S &lt;86%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362520" indent="-136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ners 3</a:t>
            </a:r>
            <a:r>
              <a:rPr b="0" lang="en-US" sz="4400" spc="-1" strike="noStrike" baseline="33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Behavior Assessment System for Children (BASC), Child Behavior Checklist/Teacher Report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81080" indent="-135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H specific scales (S&amp;S &gt;90%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362520" indent="-136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HD Comprehensive Teachers Rating Scale (ACTeR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362520" indent="-136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HD Rating Scale (DSM-IV Criteri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362520" indent="-136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ildhood Attention Problems S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362520" indent="-136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ners 3</a:t>
            </a:r>
            <a:r>
              <a:rPr b="0" lang="en-US" sz="4400" spc="-1" strike="noStrike" baseline="33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Short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362520" indent="-136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C Monitor Rating S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362520" indent="-136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ruptive Behavior S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362520" indent="-136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nderbilt Assessment S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81080" indent="-135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ducational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81080" indent="-135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sychometric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gnosis DSM-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98000"/>
          </a:bodyPr>
          <a:p>
            <a:pPr marL="423000" indent="-317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 17 year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6 symptoms of hyperactive and impuls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6 symptoms of innatten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7 yea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5 symptoms of hyperactive and impuls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5 symptoms of inatten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yperkinetic disorder (Europ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 least 6 symptoms of inattention, at least 3 symptoms of hyperactivity and at least 1 symptom of impulsivi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08T18:40:19Z</dcterms:created>
  <dc:creator>Lorena Salcedo-Alvarado</dc:creator>
  <dc:description/>
  <dc:language>en-US</dc:language>
  <cp:lastModifiedBy>Lorena Salcedo-Alvarado</cp:lastModifiedBy>
  <dcterms:modified xsi:type="dcterms:W3CDTF">2017-04-13T14:54:56Z</dcterms:modified>
  <cp:revision>15</cp:revision>
  <dc:subject/>
  <dc:title>Attention Deficit Hyperactive Disorder</dc:title>
</cp:coreProperties>
</file>